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993-BDD9-415C-9D86-E459779C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C18-E601-4AAF-86ED-315D92A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E1EEA-A4CE-4A0A-BF8E-359A8F2B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4B2A3-32EB-4E09-8B64-F051766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71B5D-EFBD-416B-BCEB-35462B0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A2747-D36F-4648-83A0-09310A5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4BACC-913E-423E-9EBC-E7CA846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8C2D-BA16-4897-993F-8C44260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F0A7-5836-4253-975D-9477B591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07B7-DB6B-4389-AFE5-F590A02A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FF0D5-C8D9-467F-B14A-DC1852CB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54A95-716E-4507-AD26-DB67EE0B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349-B2F3-49B7-91B3-0332635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0EBF7-4645-4EE3-AF8E-C299D53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44836-B65A-4F28-B01F-0524258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ACDD2-8692-4C22-84E4-9FA3235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DE6FB-5DC0-4625-89E1-FB1E70A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573F4-E1E3-4620-9080-200A5715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AC8F-7E00-4D03-9F38-0C4F3B0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552D0-F8FD-4107-88B5-82FC124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1801C-B074-4A09-A32E-21D4336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B23A5-FC29-4CBF-B3F8-CEE4D648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B0543-77F3-4A2F-9E1C-C1F1F754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C98-0A71-4438-ADB8-6734C5A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492F-E629-46CB-B67C-6111EA6A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FA48F-E297-4576-96F2-EC5CFD5F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2EC3D-0DF6-4A0D-ADB5-407C82B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C6F12-025C-4BD6-BE5A-3BD6165A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B52DC-8002-4D89-B3F4-883CFEC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955D6-BB65-4D7D-8B2B-0B4CC54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6541C-91C1-4F5B-AA02-22A5671A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C2190-98DD-4900-9442-D5ED359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66AA9-ECA0-4C59-B572-25A3E49B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119DD-80CB-44C4-B97C-8617879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33C-C1F0-4A88-9E72-B2CDFE49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BEE2-F626-4A57-A09D-59E478D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65F4-816D-4278-8C4F-F40A1DF3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3822-7842-4F36-9C40-A350B948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9AF66-D493-4A26-8402-1623BCB5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F309A-1897-4389-859D-C4DE8B4D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18C91-2C6D-475D-B18B-18AB80C2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F3DB8-25D0-4762-932D-FCDDC7F3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1014E-E1F4-4D30-B547-1156F5D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116B9-504E-4A1B-8D2C-3734A39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A59BC-A08F-474D-9BAB-FAB5C5C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1C7-9767-4F83-97FE-98B9A25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7ACCA-B059-4ABF-8F3A-0361CE35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E59E7-DE62-4A5E-9826-036F4EF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FA60D-B0B5-4558-91B9-63D28C41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C2AE0-CD01-47BC-AC00-2EC570A6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72E8-FCE2-44DD-B64A-9323C1CF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746F0-A0E6-4523-AA25-7853062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4B58E-E5D5-4948-8479-D91AA9E8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0373C-9B62-4F9B-B661-8131CA3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BA4B3-0D3A-40E5-887F-1130E4C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BAC1A-6B1C-4F8A-925F-E6797250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E61B-9068-4D78-B0DE-188B0FC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8554C-6C65-4BCD-8A6B-699531C9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29CAE-8DA2-4A90-A9CD-BF58CE2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860D1-9D86-4B5D-9632-C6FD96E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E69BB-7CA6-4118-B947-7E8D203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84195-1442-49F5-9C4E-F606F93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55F3B-8C5D-4803-8087-FC86994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945AB-4E71-40A3-887C-DD5D19A4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DB890-3589-435B-AE48-3E36B80C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F9089-668E-45FA-A154-30C4C48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D33F0-7B92-4068-9ED3-9A69EB83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7E11-6079-4657-9967-AAA565D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156BD-D3EF-49A0-BC05-6D9DB76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0B1E1-4788-4743-9B1C-B5BF033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89A5B-CC5B-4ACF-8C28-EB9F41F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3FEE8-EA6B-4515-8FD4-2D1F79F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070AF-77B7-4E59-BEA1-38C7176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096B6-4BBE-46D5-A1F2-13613A4C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640B3-3C19-4D02-B037-927EBD71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0C787-318A-48FA-9549-C9CCF77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15EF7-8E96-457A-85EA-C409A683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1A300-982E-47EA-A020-AEBD49A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821A-2E56-4FDD-B571-A985DEB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2A2C0-EDBC-41E7-8C4A-D7941C4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7DAFC-3F9A-4CC2-A95E-B7CE855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6EC21-FD4F-4C12-9611-7A73071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F9ADA-B462-476D-82E4-3120B3A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170FB-B722-49BB-8F8E-59101E4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A642D-0F57-4793-987E-D81D7DB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699E1-D52A-463B-89A9-7A7E195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2B757-EDA2-4896-A535-201D163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BD00C-3B06-4925-B9EE-41342945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F7C31-4158-42C1-932B-133BE448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5E0-D893-404B-8B95-C0F6A8D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10F0F-FBBC-448A-83B5-D2F8866C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B4762-9655-42E4-A38E-B13CCE4F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60AA1-AA60-4DDE-93BD-BFC91F19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53BC4-EC33-4067-9640-2374505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C110D-4D04-4A04-8C5D-2C31AC3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49DE7-7A95-4CCC-9EC8-13B52E9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4F33D-82D6-4472-A370-58D62287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9664A-482B-41A3-A2F8-3668093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1E25F-5121-4359-B195-AA386F9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C32BE-8644-44CE-A366-68F044F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206-4DE0-40D1-B0E9-ED5FD33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E8ADF-B31B-4641-9DB6-BADA8F2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9C70B-C00A-41CC-A2B3-67EFB563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37031-76F4-4F2E-B9EC-212ABD9C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B764E-45DA-45EC-9393-99B1CB20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3A143-E847-4F4E-95B3-D7BF005D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2F1EC-ECD9-4784-BE36-8E512168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8FB80-DEE6-47D4-A4A2-EDE689A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747AF-596F-47DA-B68B-DE3B388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BACE6-B9BE-4071-80E7-086494E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078B0-21EC-4BC0-8A03-30543EE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310-6AB3-4996-8C1F-2B3F68D4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E673-8CDF-4B50-BD00-1B90E81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BB7F0-E301-41A9-A068-D752989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6A781-B5D5-41AF-AE1F-1A2BF22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FFDAD-802C-47E1-8B96-241F469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55608-C450-4CF9-B16C-977741E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0C246-C66A-4CFC-8D6A-3AB0FF9B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7FC7A-7225-40F3-B0E9-53701E4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10278-0D37-43CE-9425-70EF33B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544E9-9785-4BA2-802A-13C5EAE9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069FB6-0FE7-455C-A24E-5019333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2336B-5725-4377-8C27-0CD364A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E2E0-456E-4B4B-8C71-E90C2FA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F1023-40CF-4667-9397-FA550DF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D64D8-920C-439D-94C7-F6417AD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EC2A4-C410-40F4-B3F6-5D0F8A0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8325E-CF6A-4810-9FAA-252FFB3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612DF-728B-4B74-8136-D256E323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17571-A564-4479-88D4-0B9C2C4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613E7-EEDD-4E7E-8F3A-B7E6611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F2841-B118-4754-B8ED-0D7C2B48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047F0-B9F0-468C-A6BA-FE9EBE0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3B40C-EBAE-4234-8B79-BA19642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A09-3F23-4361-8F34-BC150835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D2FD2-24EB-4E10-9D6A-0B4BB490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08062-1DDC-4328-8157-D99F101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58E3E-6310-4614-A28A-24A044F5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63F5F-B517-4BC1-889A-904CF8E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242D9-9164-4761-976F-BED0779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FC8E8-685E-42E1-9D17-0425063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1C564-681C-40C7-A137-EEF760F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72E8A-EA5E-4FC1-826D-6C9A4B8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D9F55-73E7-43EB-8FF4-B027CC1D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555A2-39FF-43B0-A3EE-334A5D30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2ACB-D759-4010-8C63-675A6993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D4A41-255E-480F-9610-88466D90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40D38-D9DF-469F-A7BF-B89093A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5DDB8-2A34-4899-B138-D731BFCA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48901-E260-4290-A172-D508A855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93B8A-5194-49AE-8599-BDE8F79A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1EC3C-9D61-4CCB-B767-75416AF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A599D-3031-4D96-A500-994C006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BBE27-4097-4C0F-9040-4A485BF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D6839-F7D3-4037-B469-7BA3D43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119ED-9D3A-4F2E-89FF-67949984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346-EADC-4738-BB25-5D471D38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61CBE-F983-4FD9-9E8F-A8D110BE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249E9-F677-456B-B96D-2F1A18CA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0155A-D0FB-4407-A46D-6B25724C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6B951-1F1E-4D13-92E1-5601059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6A127-2667-4BCF-9E09-B08DEDA1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DDE03-7B88-450D-8217-CE20117D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B2B3D-EE05-49BF-BECA-EEA626F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C9E7B-C0D5-4148-8DD3-BFCB38E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7EE49-4246-494B-ADAB-1A04CBE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60B8A-DB59-4400-A6F7-6A32C026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24E0-8A68-473F-9156-EBAE57F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54BB9-9A6E-4DA2-8818-020B17FF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C7AD3-EB40-4BA8-B836-C956266B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C06F0-9318-491E-BA49-1454DD46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254A-3109-4C5B-B456-1B3F764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D8AD-995F-447F-993F-FA1CF44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ED6A-6EF8-4B6D-8374-3E51E72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A172-BB58-4804-A94C-7A0077A7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7E7-FF58-44F0-B92D-4D015C4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69F2-5954-47A1-BA3C-99DFD00C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4985-501B-4251-A9A5-6356BCD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310A-7251-406D-A211-FCC50DA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7022-FD71-48C3-A630-E53E690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F165-2CDC-425A-9133-C50FABF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DB34-8910-4E00-9DC3-77AD2574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A7B5-0579-47DC-B7C3-E64FC4F7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6EAE-B1A4-443D-8DB8-7A8C2394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F88F-C03E-42FC-94A1-761CBAE6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7268-38F0-471D-9C8C-E2B76041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F0D-0154-447C-A582-8E95D2FA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5E0B-9705-40C9-BFBE-332D74D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C0FF-514A-4E27-9F73-6EFF81A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01D9-2A52-4BE9-A996-53216A7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6D4C-5575-4A4A-8354-9AB7366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1E5A-55DF-48A3-8BCF-0FF4863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ABFA-C35C-4501-8959-D4B2358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287F-E3A6-4DCC-A679-C23A1F5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9E42-BDF2-416E-B2B1-18BF27C9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1DBA-52BC-4390-BC3D-1D59A341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8ECA-0830-4031-8484-52DEFB4F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513-27E3-4EB8-9579-8F3B9D0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8211-9EBC-4317-B9C5-2E016A5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8429-6E60-4F5A-80E8-E1D4A98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A57A-E29C-4911-A9C9-92EC29C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18B8-CEF4-46A8-8387-B61D180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A7A3-083C-47A4-A0DF-BBC4F9E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323B-E984-48B1-B2EA-8102E6B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0C10-3B29-4E3A-9F33-4F3228E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1A39-168F-45F4-8669-D207ED7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D9B42-B5CB-4B3C-ADCF-39D2BBC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3E67-4804-4455-BB70-0E838E14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725-4C7D-402D-9213-0548C43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A16B-60AF-4E35-9782-93FF2601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52F7B-5E09-4518-89C5-641D662F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C183-E945-4897-A6B1-00307D8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6E4C4-6207-439F-AB6B-F24D184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7B6BF-E3BE-48ED-80C7-E20576FE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9244-C82F-4779-B1CD-5E558E3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397A-F7F8-420D-B344-7C2DDB53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A433-5578-410F-80B8-A7BADB1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5F400-85C8-4B7B-8E37-661055A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7CB4F-C762-4091-BEA7-F80B947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98C-9F08-4C1A-BDE5-9242236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2973-1A61-463E-B9FC-735048A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CB2F-3763-4B8D-9DFF-731D8722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9163-E381-4470-BE20-AAD05A6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51FB-8B41-4510-BBE0-FD62AF19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5BF8-62E4-49D6-89BF-93EC16FA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EA0D-7915-4B15-8030-6A02836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3401-BF28-4369-BFA9-7E1196A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0D6A-C07A-4F07-A164-6D21DC30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4042-4E3A-46FA-8D80-AD68C76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A094-9D60-4439-990A-53D7821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822-3307-4762-8532-7294E58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8492-FBED-41A5-B6E1-7F011D5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BDFB-DEB0-4AD3-9A4D-C29163D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5A77-A675-4CF7-AEFF-FF2A11C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6E2E5-51E2-412A-99B7-11F23885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EAF6-15FC-4696-9FF1-8538FC41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58ECF-B09F-4A26-B1C8-AD154488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19C7-B66E-4345-B99E-9A5D5CB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93D1-89B4-4E9C-B61E-C2D2742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B3329-A62A-46B3-81E9-105FD2CD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DE0C-FF77-4B50-B164-A55A9100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FD0-D490-47F6-933E-8278471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7FE8-D06D-4C43-8AAE-2BE8B03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B3E1E-755C-4ACE-9BD2-5E282D2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79A1-D6FC-4FFD-A1C5-9C77E96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236C-7049-46C2-AE8A-83D6447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07C6F-77BA-4AD8-8989-F86746A7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3B64-3006-4FC4-B9CD-609DFFD6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91FF-DC4F-4712-9866-F412647E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912E5-8719-4642-946D-0C7BF6ED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62D8F-1E6F-4030-8BFF-D86E7A9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C252F-62F3-4924-969E-20EF911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BD8E-99E4-4ABB-B987-674072EC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825-84E1-4E71-ACBA-3628C281A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E4A-74C5-4546-9DEB-D542C862E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8E3-477B-4FF2-BFC2-D7819391F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D6C-7C17-4F9B-8123-2E36CF3C3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B0D-B0FE-422E-AEC1-230217CE6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E9D4-3AC2-48CA-9972-B32D40698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D12D-4688-4912-9002-7EC0AA9F9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440-8999-460C-B4B6-B93A87723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14D8-A743-4E8E-8473-6CEF3E3C9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23C-AC57-473E-BACE-EF180CDBF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7583-D292-4441-8505-57DAD5D76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0BFB-164D-46BB-9905-B56A5C677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12C-6DAA-4B5C-9A38-22F5A099B9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AAE-6939-434C-9080-A705BA13A6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B51-37B1-42FA-8A15-7A14033D0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9C3-92EF-4462-B928-9E435F587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F81-2AD2-433A-A6A9-17AABF1DD6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226-088F-4798-B567-3795BB0D1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6A5-3317-4AD0-A9B8-4583EC711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D24E-6376-4A58-A93D-4D3451D38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0C9-D81D-4302-ABD6-608D9549C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C5C5-5636-45C9-82DB-5845790BA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B25-3789-4C31-840E-F3B9972F8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ED6-B913-4B32-BE77-3B8FB8D69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113-8965-4EBB-8227-70E403E37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9E9-0AE2-4A3C-89D3-6AFBD24F1F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2E5-E794-4407-90B4-CD6FADED2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9E8-BC45-4B47-9F41-672B18BDA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A8F-8F54-44D3-9757-A5549AE62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C77-DC2E-4D65-A471-C5C32797F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0461-7955-4BF8-9FB4-C82209AC3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31D-DA95-4699-8D9B-7C7CFA19F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B107-1C87-4543-86B6-CC435BC29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1C61-5490-4CD4-A4BE-0DB899FA8B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CCAC-7D07-431B-8A56-4BBE0E4CF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BAC-C06D-4CAC-94F0-3E49952C0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94D-19FA-4114-A1D8-806FDF5B4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33FB-7038-4AC7-998A-F12E6E6BC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EFA-4021-41B1-A685-EB9089862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523960" y="3057480"/>
            <a:ext cx="4096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38200" y="1700280"/>
            <a:ext cx="8067600" cy="34574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3929040" y="2643120"/>
            <a:ext cx="11430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5586480" y="2679840"/>
            <a:ext cx="1214280" cy="323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2214720" y="4071960"/>
            <a:ext cx="11430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4700520" y="4071960"/>
            <a:ext cx="78588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6072120" y="4071960"/>
            <a:ext cx="10717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6929280" y="1357200"/>
            <a:ext cx="1643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8058240" cy="564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571840" y="500040"/>
            <a:ext cx="4172040" cy="5428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2857680" y="2500200"/>
            <a:ext cx="13572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3225960" y="3414600"/>
            <a:ext cx="357156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4937040" y="3929040"/>
            <a:ext cx="18986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6951600" y="4843440"/>
            <a:ext cx="14781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4929120" y="5786280"/>
            <a:ext cx="34290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82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15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10520" cy="4314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2"/>
          <a:stretch/>
        </p:blipFill>
        <p:spPr>
          <a:xfrm>
            <a:off x="928800" y="5143680"/>
            <a:ext cx="6010200" cy="1352520"/>
          </a:xfrm>
          <a:prstGeom prst="rect">
            <a:avLst/>
          </a:prstGeom>
          <a:ln w="0">
            <a:noFill/>
          </a:ln>
        </p:spPr>
      </p:pic>
      <p:sp>
        <p:nvSpPr>
          <p:cNvPr id="1034" name="矩形 3"/>
          <p:cNvSpPr/>
          <p:nvPr/>
        </p:nvSpPr>
        <p:spPr>
          <a:xfrm>
            <a:off x="1000080" y="2214720"/>
            <a:ext cx="428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928800" y="4143240"/>
            <a:ext cx="428400" cy="322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200800" cy="51530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1000080" y="1214280"/>
            <a:ext cx="428760" cy="322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1000080" y="4000680"/>
            <a:ext cx="428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23800" y="1995480"/>
            <a:ext cx="8096400" cy="28670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928800" y="2143080"/>
            <a:ext cx="428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80960" y="861840"/>
            <a:ext cx="8182080" cy="51343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6929280" y="1357200"/>
            <a:ext cx="1643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974880" y="1832040"/>
            <a:ext cx="16430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3286080" y="228600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4500720" y="3214800"/>
            <a:ext cx="20714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3714840" y="4168800"/>
            <a:ext cx="18572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7"/>
          <p:cNvSpPr/>
          <p:nvPr/>
        </p:nvSpPr>
        <p:spPr>
          <a:xfrm>
            <a:off x="2071800" y="514368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85640" y="1290600"/>
            <a:ext cx="8172720" cy="42768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2857680" y="2286000"/>
            <a:ext cx="9284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4143240" y="2286000"/>
            <a:ext cx="10717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5694480" y="2336760"/>
            <a:ext cx="16430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2286000" y="3714840"/>
            <a:ext cx="9288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3643200" y="3714840"/>
            <a:ext cx="15004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4178160" y="4665600"/>
            <a:ext cx="107172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5715000" y="4668840"/>
            <a:ext cx="14288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7500960" y="4668840"/>
            <a:ext cx="100008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0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